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39D-B52E-45DF-8B61-690ED3EA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610-CD76-4214-A9F7-801EE586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480-92BC-4E06-9C34-675DA51E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F02-6838-4467-B2B2-0EF5122A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662-0ACA-40BF-9556-A4606A69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CB1-B2D3-402B-B945-CA1AE0E0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4D1-9A44-497E-AE09-76230585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E6CA-D42D-4A4C-856C-94775569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80B-57F8-47B5-9A68-73E39883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8B9-04D6-470A-BA2E-E4037E68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533-8D24-4E9D-857C-8909420C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C77-3EE4-4D41-BBE4-95FE5D96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208-3559-4B2B-B46F-A3C67CDD5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6840" y="1423440"/>
            <a:ext cx="85186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Libres o Fre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define como acuífero libre a un medio permeable que se encu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lo general parcialmente saturado y cuya agua subterránea se 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entra a presión atmosférica, vale decir la superficie freática se pres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 conectada a la atmósfera a través de los intersticios del medio pe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on medios permeables limitados hacia el techo y la base por estra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ermeables. Se presentan en presión y por consiguiente el agua sub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ánea satura por completo el acuífero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4680" y="1716120"/>
            <a:ext cx="84211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Acuíferos Semilibres y Semiconfi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tre un acuífero libre y uno confinado, se comprenderá que exis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ie continua definida por el grado de confinamiento del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. Los que presentan muy leve confinamiento se denominan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 semilibres y los que lo presentan en grado importante semiconfi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30200" y="1514160"/>
            <a:ext cx="8259840" cy="3363120"/>
            <a:chOff x="430200" y="1514160"/>
            <a:chExt cx="8259840" cy="3363120"/>
          </a:xfrm>
        </p:grpSpPr>
        <p:grpSp>
          <p:nvGrpSpPr>
            <p:cNvPr id="105" name=""/>
            <p:cNvGrpSpPr/>
            <p:nvPr/>
          </p:nvGrpSpPr>
          <p:grpSpPr>
            <a:xfrm>
              <a:off x="430200" y="2039760"/>
              <a:ext cx="8259840" cy="2036880"/>
              <a:chOff x="430200" y="2039760"/>
              <a:chExt cx="8259840" cy="203688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165320" y="2039760"/>
                <a:ext cx="7524720" cy="2036880"/>
                <a:chOff x="1165320" y="2039760"/>
                <a:chExt cx="7524720" cy="2036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165320" y="2039760"/>
                  <a:ext cx="7524720" cy="2036880"/>
                </a:xfrm>
                <a:custGeom>
                  <a:avLst/>
                  <a:gdLst/>
                  <a:ahLst/>
                  <a:rect l="l" t="t" r="r" b="b"/>
                  <a:pathLst>
                    <a:path w="4740" h="1283">
                      <a:moveTo>
                        <a:pt x="271" y="889"/>
                      </a:moveTo>
                      <a:cubicBezTo>
                        <a:pt x="328" y="945"/>
                        <a:pt x="430" y="1007"/>
                        <a:pt x="511" y="1026"/>
                      </a:cubicBezTo>
                      <a:cubicBezTo>
                        <a:pt x="581" y="1096"/>
                        <a:pt x="631" y="1079"/>
                        <a:pt x="674" y="1137"/>
                      </a:cubicBezTo>
                      <a:cubicBezTo>
                        <a:pt x="783" y="1134"/>
                        <a:pt x="805" y="1186"/>
                        <a:pt x="914" y="1180"/>
                      </a:cubicBezTo>
                      <a:cubicBezTo>
                        <a:pt x="923" y="1180"/>
                        <a:pt x="1154" y="1213"/>
                        <a:pt x="1163" y="1214"/>
                      </a:cubicBezTo>
                      <a:cubicBezTo>
                        <a:pt x="1274" y="1224"/>
                        <a:pt x="1293" y="1214"/>
                        <a:pt x="1403" y="1231"/>
                      </a:cubicBezTo>
                      <a:cubicBezTo>
                        <a:pt x="1471" y="1283"/>
                        <a:pt x="1568" y="1212"/>
                        <a:pt x="1651" y="1231"/>
                      </a:cubicBezTo>
                      <a:cubicBezTo>
                        <a:pt x="1694" y="1223"/>
                        <a:pt x="1746" y="1258"/>
                        <a:pt x="1788" y="1245"/>
                      </a:cubicBezTo>
                      <a:cubicBezTo>
                        <a:pt x="1797" y="1239"/>
                        <a:pt x="1804" y="1228"/>
                        <a:pt x="1814" y="1228"/>
                      </a:cubicBezTo>
                      <a:cubicBezTo>
                        <a:pt x="1829" y="1228"/>
                        <a:pt x="1842" y="1241"/>
                        <a:pt x="1857" y="1245"/>
                      </a:cubicBezTo>
                      <a:cubicBezTo>
                        <a:pt x="1882" y="1252"/>
                        <a:pt x="1909" y="1255"/>
                        <a:pt x="1934" y="1262"/>
                      </a:cubicBezTo>
                      <a:cubicBezTo>
                        <a:pt x="1970" y="1263"/>
                        <a:pt x="1984" y="1248"/>
                        <a:pt x="2071" y="1249"/>
                      </a:cubicBezTo>
                      <a:cubicBezTo>
                        <a:pt x="2138" y="1245"/>
                        <a:pt x="2237" y="1256"/>
                        <a:pt x="2337" y="1240"/>
                      </a:cubicBezTo>
                      <a:cubicBezTo>
                        <a:pt x="2437" y="1224"/>
                        <a:pt x="2580" y="1177"/>
                        <a:pt x="2672" y="1154"/>
                      </a:cubicBezTo>
                      <a:cubicBezTo>
                        <a:pt x="2689" y="1148"/>
                        <a:pt x="2877" y="1110"/>
                        <a:pt x="2892" y="1101"/>
                      </a:cubicBezTo>
                      <a:cubicBezTo>
                        <a:pt x="2901" y="1096"/>
                        <a:pt x="3142" y="1048"/>
                        <a:pt x="3149" y="1041"/>
                      </a:cubicBezTo>
                      <a:cubicBezTo>
                        <a:pt x="3183" y="1007"/>
                        <a:pt x="3388" y="976"/>
                        <a:pt x="3434" y="965"/>
                      </a:cubicBezTo>
                      <a:cubicBezTo>
                        <a:pt x="3462" y="947"/>
                        <a:pt x="3694" y="915"/>
                        <a:pt x="3726" y="905"/>
                      </a:cubicBezTo>
                      <a:cubicBezTo>
                        <a:pt x="3855" y="929"/>
                        <a:pt x="4012" y="812"/>
                        <a:pt x="4120" y="785"/>
                      </a:cubicBezTo>
                      <a:cubicBezTo>
                        <a:pt x="4208" y="763"/>
                        <a:pt x="4383" y="705"/>
                        <a:pt x="4472" y="700"/>
                      </a:cubicBezTo>
                      <a:cubicBezTo>
                        <a:pt x="4499" y="691"/>
                        <a:pt x="4740" y="667"/>
                        <a:pt x="4703" y="631"/>
                      </a:cubicBezTo>
                      <a:cubicBezTo>
                        <a:pt x="4687" y="616"/>
                        <a:pt x="4713" y="9"/>
                        <a:pt x="4693" y="0"/>
                      </a:cubicBezTo>
                      <a:cubicBezTo>
                        <a:pt x="4591" y="30"/>
                        <a:pt x="4548" y="34"/>
                        <a:pt x="4477" y="48"/>
                      </a:cubicBezTo>
                      <a:cubicBezTo>
                        <a:pt x="4406" y="62"/>
                        <a:pt x="4359" y="70"/>
                        <a:pt x="4267" y="84"/>
                      </a:cubicBezTo>
                      <a:cubicBezTo>
                        <a:pt x="4175" y="98"/>
                        <a:pt x="4059" y="116"/>
                        <a:pt x="3925" y="132"/>
                      </a:cubicBezTo>
                      <a:cubicBezTo>
                        <a:pt x="3828" y="160"/>
                        <a:pt x="3609" y="163"/>
                        <a:pt x="3463" y="180"/>
                      </a:cubicBezTo>
                      <a:cubicBezTo>
                        <a:pt x="3317" y="197"/>
                        <a:pt x="3187" y="217"/>
                        <a:pt x="3046" y="235"/>
                      </a:cubicBezTo>
                      <a:cubicBezTo>
                        <a:pt x="2905" y="253"/>
                        <a:pt x="2865" y="262"/>
                        <a:pt x="2618" y="286"/>
                      </a:cubicBezTo>
                      <a:cubicBezTo>
                        <a:pt x="2371" y="310"/>
                        <a:pt x="1872" y="354"/>
                        <a:pt x="1561" y="378"/>
                      </a:cubicBezTo>
                      <a:cubicBezTo>
                        <a:pt x="1250" y="402"/>
                        <a:pt x="947" y="418"/>
                        <a:pt x="749" y="432"/>
                      </a:cubicBezTo>
                      <a:cubicBezTo>
                        <a:pt x="551" y="446"/>
                        <a:pt x="471" y="454"/>
                        <a:pt x="373" y="462"/>
                      </a:cubicBezTo>
                      <a:cubicBezTo>
                        <a:pt x="275" y="470"/>
                        <a:pt x="210" y="476"/>
                        <a:pt x="163" y="480"/>
                      </a:cubicBezTo>
                      <a:cubicBezTo>
                        <a:pt x="116" y="484"/>
                        <a:pt x="116" y="484"/>
                        <a:pt x="91" y="486"/>
                      </a:cubicBezTo>
                      <a:cubicBezTo>
                        <a:pt x="66" y="488"/>
                        <a:pt x="26" y="486"/>
                        <a:pt x="13" y="490"/>
                      </a:cubicBezTo>
                      <a:cubicBezTo>
                        <a:pt x="0" y="494"/>
                        <a:pt x="9" y="497"/>
                        <a:pt x="10" y="510"/>
                      </a:cubicBezTo>
                      <a:cubicBezTo>
                        <a:pt x="11" y="523"/>
                        <a:pt x="11" y="549"/>
                        <a:pt x="17" y="566"/>
                      </a:cubicBezTo>
                      <a:cubicBezTo>
                        <a:pt x="23" y="583"/>
                        <a:pt x="27" y="606"/>
                        <a:pt x="45" y="614"/>
                      </a:cubicBezTo>
                      <a:cubicBezTo>
                        <a:pt x="63" y="622"/>
                        <a:pt x="97" y="617"/>
                        <a:pt x="127" y="616"/>
                      </a:cubicBezTo>
                      <a:cubicBezTo>
                        <a:pt x="157" y="615"/>
                        <a:pt x="184" y="610"/>
                        <a:pt x="223" y="606"/>
                      </a:cubicBezTo>
                      <a:cubicBezTo>
                        <a:pt x="262" y="602"/>
                        <a:pt x="304" y="597"/>
                        <a:pt x="361" y="594"/>
                      </a:cubicBezTo>
                      <a:cubicBezTo>
                        <a:pt x="418" y="591"/>
                        <a:pt x="490" y="592"/>
                        <a:pt x="565" y="588"/>
                      </a:cubicBezTo>
                      <a:cubicBezTo>
                        <a:pt x="640" y="584"/>
                        <a:pt x="662" y="574"/>
                        <a:pt x="811" y="570"/>
                      </a:cubicBezTo>
                      <a:cubicBezTo>
                        <a:pt x="960" y="566"/>
                        <a:pt x="1212" y="570"/>
                        <a:pt x="1458" y="561"/>
                      </a:cubicBezTo>
                      <a:cubicBezTo>
                        <a:pt x="1704" y="552"/>
                        <a:pt x="2044" y="528"/>
                        <a:pt x="2290" y="518"/>
                      </a:cubicBezTo>
                      <a:cubicBezTo>
                        <a:pt x="2536" y="508"/>
                        <a:pt x="2753" y="508"/>
                        <a:pt x="2932" y="501"/>
                      </a:cubicBezTo>
                      <a:cubicBezTo>
                        <a:pt x="3111" y="494"/>
                        <a:pt x="3237" y="485"/>
                        <a:pt x="3361" y="475"/>
                      </a:cubicBezTo>
                      <a:cubicBezTo>
                        <a:pt x="3485" y="465"/>
                        <a:pt x="3689" y="422"/>
                        <a:pt x="3678" y="441"/>
                      </a:cubicBezTo>
                      <a:cubicBezTo>
                        <a:pt x="3624" y="461"/>
                        <a:pt x="3388" y="558"/>
                        <a:pt x="3297" y="588"/>
                      </a:cubicBezTo>
                      <a:cubicBezTo>
                        <a:pt x="3206" y="618"/>
                        <a:pt x="3200" y="606"/>
                        <a:pt x="3134" y="622"/>
                      </a:cubicBezTo>
                      <a:cubicBezTo>
                        <a:pt x="3068" y="638"/>
                        <a:pt x="2976" y="666"/>
                        <a:pt x="2903" y="682"/>
                      </a:cubicBezTo>
                      <a:cubicBezTo>
                        <a:pt x="2830" y="698"/>
                        <a:pt x="2785" y="704"/>
                        <a:pt x="2697" y="717"/>
                      </a:cubicBezTo>
                      <a:cubicBezTo>
                        <a:pt x="2663" y="712"/>
                        <a:pt x="2404" y="774"/>
                        <a:pt x="2372" y="760"/>
                      </a:cubicBezTo>
                      <a:cubicBezTo>
                        <a:pt x="2364" y="757"/>
                        <a:pt x="2037" y="821"/>
                        <a:pt x="2029" y="820"/>
                      </a:cubicBezTo>
                      <a:cubicBezTo>
                        <a:pt x="1981" y="812"/>
                        <a:pt x="1786" y="840"/>
                        <a:pt x="1737" y="837"/>
                      </a:cubicBezTo>
                      <a:cubicBezTo>
                        <a:pt x="1620" y="822"/>
                        <a:pt x="1537" y="851"/>
                        <a:pt x="1420" y="837"/>
                      </a:cubicBezTo>
                      <a:cubicBezTo>
                        <a:pt x="1324" y="838"/>
                        <a:pt x="1254" y="826"/>
                        <a:pt x="1188" y="829"/>
                      </a:cubicBezTo>
                      <a:cubicBezTo>
                        <a:pt x="1122" y="832"/>
                        <a:pt x="1115" y="848"/>
                        <a:pt x="1025" y="854"/>
                      </a:cubicBezTo>
                      <a:cubicBezTo>
                        <a:pt x="935" y="860"/>
                        <a:pt x="774" y="857"/>
                        <a:pt x="648" y="863"/>
                      </a:cubicBezTo>
                      <a:cubicBezTo>
                        <a:pt x="614" y="875"/>
                        <a:pt x="306" y="889"/>
                        <a:pt x="271" y="889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75600" y="2268360"/>
                  <a:ext cx="54000" cy="10904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430200" y="3227040"/>
                <a:ext cx="1352880" cy="669960"/>
              </a:xfrm>
              <a:custGeom>
                <a:avLst/>
                <a:gdLst/>
                <a:ahLst/>
                <a:rect l="l" t="t" r="r" b="b"/>
                <a:pathLst>
                  <a:path w="852" h="422">
                    <a:moveTo>
                      <a:pt x="848" y="224"/>
                    </a:moveTo>
                    <a:cubicBezTo>
                      <a:pt x="852" y="224"/>
                      <a:pt x="804" y="197"/>
                      <a:pt x="786" y="184"/>
                    </a:cubicBezTo>
                    <a:cubicBezTo>
                      <a:pt x="768" y="171"/>
                      <a:pt x="752" y="158"/>
                      <a:pt x="740" y="146"/>
                    </a:cubicBezTo>
                    <a:cubicBezTo>
                      <a:pt x="733" y="119"/>
                      <a:pt x="732" y="136"/>
                      <a:pt x="714" y="114"/>
                    </a:cubicBezTo>
                    <a:cubicBezTo>
                      <a:pt x="702" y="100"/>
                      <a:pt x="685" y="116"/>
                      <a:pt x="678" y="96"/>
                    </a:cubicBezTo>
                    <a:cubicBezTo>
                      <a:pt x="671" y="78"/>
                      <a:pt x="646" y="68"/>
                      <a:pt x="630" y="60"/>
                    </a:cubicBezTo>
                    <a:cubicBezTo>
                      <a:pt x="614" y="52"/>
                      <a:pt x="598" y="58"/>
                      <a:pt x="580" y="50"/>
                    </a:cubicBezTo>
                    <a:cubicBezTo>
                      <a:pt x="572" y="33"/>
                      <a:pt x="538" y="26"/>
                      <a:pt x="520" y="14"/>
                    </a:cubicBezTo>
                    <a:cubicBezTo>
                      <a:pt x="512" y="0"/>
                      <a:pt x="477" y="58"/>
                      <a:pt x="450" y="66"/>
                    </a:cubicBezTo>
                    <a:cubicBezTo>
                      <a:pt x="423" y="74"/>
                      <a:pt x="386" y="52"/>
                      <a:pt x="358" y="60"/>
                    </a:cubicBezTo>
                    <a:cubicBezTo>
                      <a:pt x="344" y="55"/>
                      <a:pt x="301" y="126"/>
                      <a:pt x="280" y="116"/>
                    </a:cubicBezTo>
                    <a:cubicBezTo>
                      <a:pt x="258" y="138"/>
                      <a:pt x="246" y="158"/>
                      <a:pt x="226" y="190"/>
                    </a:cubicBezTo>
                    <a:cubicBezTo>
                      <a:pt x="173" y="232"/>
                      <a:pt x="200" y="274"/>
                      <a:pt x="160" y="306"/>
                    </a:cubicBezTo>
                    <a:cubicBezTo>
                      <a:pt x="146" y="320"/>
                      <a:pt x="86" y="344"/>
                      <a:pt x="74" y="360"/>
                    </a:cubicBezTo>
                    <a:cubicBezTo>
                      <a:pt x="64" y="391"/>
                      <a:pt x="16" y="409"/>
                      <a:pt x="0" y="4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8040" y="2192040"/>
                <a:ext cx="7467480" cy="685800"/>
              </a:xfrm>
              <a:custGeom>
                <a:avLst/>
                <a:gdLst/>
                <a:ahLst/>
                <a:rect l="l" t="t" r="r" b="b"/>
                <a:pathLst>
                  <a:path w="4704" h="432">
                    <a:moveTo>
                      <a:pt x="0" y="432"/>
                    </a:moveTo>
                    <a:cubicBezTo>
                      <a:pt x="31" y="429"/>
                      <a:pt x="120" y="419"/>
                      <a:pt x="186" y="414"/>
                    </a:cubicBezTo>
                    <a:cubicBezTo>
                      <a:pt x="252" y="409"/>
                      <a:pt x="313" y="406"/>
                      <a:pt x="396" y="402"/>
                    </a:cubicBezTo>
                    <a:cubicBezTo>
                      <a:pt x="479" y="398"/>
                      <a:pt x="583" y="396"/>
                      <a:pt x="684" y="390"/>
                    </a:cubicBezTo>
                    <a:cubicBezTo>
                      <a:pt x="785" y="384"/>
                      <a:pt x="891" y="372"/>
                      <a:pt x="1002" y="366"/>
                    </a:cubicBezTo>
                    <a:cubicBezTo>
                      <a:pt x="1113" y="360"/>
                      <a:pt x="1227" y="360"/>
                      <a:pt x="1350" y="354"/>
                    </a:cubicBezTo>
                    <a:cubicBezTo>
                      <a:pt x="1473" y="348"/>
                      <a:pt x="1604" y="339"/>
                      <a:pt x="1740" y="330"/>
                    </a:cubicBezTo>
                    <a:cubicBezTo>
                      <a:pt x="1876" y="321"/>
                      <a:pt x="2031" y="310"/>
                      <a:pt x="2166" y="300"/>
                    </a:cubicBezTo>
                    <a:cubicBezTo>
                      <a:pt x="2301" y="290"/>
                      <a:pt x="2425" y="283"/>
                      <a:pt x="2550" y="270"/>
                    </a:cubicBezTo>
                    <a:cubicBezTo>
                      <a:pt x="2675" y="257"/>
                      <a:pt x="2805" y="236"/>
                      <a:pt x="2916" y="222"/>
                    </a:cubicBezTo>
                    <a:cubicBezTo>
                      <a:pt x="3027" y="208"/>
                      <a:pt x="3120" y="199"/>
                      <a:pt x="3216" y="186"/>
                    </a:cubicBezTo>
                    <a:cubicBezTo>
                      <a:pt x="3312" y="173"/>
                      <a:pt x="3399" y="156"/>
                      <a:pt x="3492" y="144"/>
                    </a:cubicBezTo>
                    <a:cubicBezTo>
                      <a:pt x="3585" y="132"/>
                      <a:pt x="3683" y="124"/>
                      <a:pt x="3774" y="114"/>
                    </a:cubicBezTo>
                    <a:cubicBezTo>
                      <a:pt x="3865" y="104"/>
                      <a:pt x="3934" y="96"/>
                      <a:pt x="4038" y="84"/>
                    </a:cubicBezTo>
                    <a:cubicBezTo>
                      <a:pt x="4142" y="72"/>
                      <a:pt x="4287" y="56"/>
                      <a:pt x="4398" y="42"/>
                    </a:cubicBezTo>
                    <a:cubicBezTo>
                      <a:pt x="4509" y="28"/>
                      <a:pt x="4640" y="9"/>
                      <a:pt x="4704" y="0"/>
                    </a:cubicBezTo>
                  </a:path>
                </a:pathLst>
              </a:custGeom>
              <a:noFill/>
              <a:ln w="158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38720" y="2716200"/>
                <a:ext cx="54000" cy="1161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224000" y="2392200"/>
                <a:ext cx="5757840" cy="0"/>
              </a:xfrm>
              <a:prstGeom prst="line">
                <a:avLst/>
              </a:prstGeom>
              <a:ln w="1584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19920" y="2239920"/>
                <a:ext cx="76320" cy="75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67000" y="2649240"/>
                <a:ext cx="76320" cy="76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69320" y="1514160"/>
              <a:ext cx="7533360" cy="3363120"/>
              <a:chOff x="769320" y="1514160"/>
              <a:chExt cx="7533360" cy="3363120"/>
            </a:xfrm>
          </p:grpSpPr>
          <p:sp>
            <p:nvSpPr>
              <p:cNvPr id="116" name=""/>
              <p:cNvSpPr/>
              <p:nvPr/>
            </p:nvSpPr>
            <p:spPr>
              <a:xfrm>
                <a:off x="2585160" y="2968200"/>
                <a:ext cx="2879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ff00"/>
                    </a:solidFill>
                    <a:latin typeface="Comic Sans MS"/>
                  </a:rPr>
                  <a:t>Arcillas Orgánicas (estrato confinante)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9320" y="2752200"/>
                <a:ext cx="453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ff"/>
                    </a:solidFill>
                    <a:latin typeface="Comic Sans MS"/>
                  </a:rPr>
                  <a:t>N.E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74360" y="2275920"/>
                <a:ext cx="4640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ff"/>
                    </a:solidFill>
                    <a:latin typeface="Comic Sans MS"/>
                  </a:rPr>
                  <a:t>N.C.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86560" y="2410920"/>
                <a:ext cx="698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Concón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83960" y="1963440"/>
                <a:ext cx="9169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ff00"/>
                    </a:solidFill>
                    <a:latin typeface="Comic Sans MS"/>
                  </a:rPr>
                  <a:t>Tabolang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5160" y="402876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06560" y="3980880"/>
                <a:ext cx="18954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Comic Sans MS"/>
                  </a:rPr>
                  <a:t>Roca basal impermeabl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68000" y="4615920"/>
                <a:ext cx="15066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confinad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46920" y="151416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75040" y="1666440"/>
                <a:ext cx="1355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ff6600"/>
                    </a:solidFill>
                    <a:latin typeface="Comic Sans MS"/>
                  </a:rPr>
                  <a:t>Acuífero freático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81280" y="1895400"/>
                <a:ext cx="45720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91320" y="179064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929040" y="3662280"/>
                <a:ext cx="0" cy="914400"/>
              </a:xfrm>
              <a:prstGeom prst="line">
                <a:avLst/>
              </a:prstGeom>
              <a:ln w="15840">
                <a:solidFill>
                  <a:srgbClr val="ff66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619000"/>
            <a:ext cx="1727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 = k * e * L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Q = T * i *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5400" y="1126080"/>
            <a:ext cx="302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04960" y="1676160"/>
            <a:ext cx="5029560" cy="4280040"/>
            <a:chOff x="3504960" y="1676160"/>
            <a:chExt cx="5029560" cy="4280040"/>
          </a:xfrm>
        </p:grpSpPr>
        <p:sp>
          <p:nvSpPr>
            <p:cNvPr id="133" name=""/>
            <p:cNvSpPr/>
            <p:nvPr/>
          </p:nvSpPr>
          <p:spPr>
            <a:xfrm>
              <a:off x="5867280" y="358128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280" y="274320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867280" y="4648320"/>
              <a:ext cx="167652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43800" y="27432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3504960" y="441936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3504960" y="2514240"/>
              <a:ext cx="23619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17920" y="2514600"/>
              <a:ext cx="0" cy="190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181480" y="1676160"/>
              <a:ext cx="236232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505320" y="1676520"/>
              <a:ext cx="167616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67280" y="3657600"/>
              <a:ext cx="1676520" cy="83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504960" y="3047760"/>
              <a:ext cx="2361960" cy="144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1676520"/>
              <a:ext cx="0" cy="1904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181480" y="3581280"/>
              <a:ext cx="2362320" cy="1067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505320" y="3580920"/>
              <a:ext cx="1676160" cy="838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5181480" y="2209680"/>
              <a:ext cx="2362320" cy="14479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3505320" y="2209320"/>
              <a:ext cx="1676160" cy="83844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7880000">
              <a:off x="7048440" y="4457160"/>
              <a:ext cx="304920" cy="838440"/>
            </a:xfrm>
            <a:prstGeom prst="downArrow">
              <a:avLst>
                <a:gd name="adj1" fmla="val 50000"/>
                <a:gd name="adj2" fmla="val 68743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80240" y="5499000"/>
              <a:ext cx="9903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800" y="4648320"/>
              <a:ext cx="9907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6324480" y="4876560"/>
              <a:ext cx="2133720" cy="106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56320" y="528228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257440" y="4495680"/>
              <a:ext cx="609480" cy="304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244840" y="5473800"/>
              <a:ext cx="609480" cy="304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4648320"/>
              <a:ext cx="0" cy="1143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2640" y="52059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504960" y="3428640"/>
              <a:ext cx="2361960" cy="1066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23800" y="347868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66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79640" y="441936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33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181480" y="2590560"/>
              <a:ext cx="2362320" cy="10666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505320" y="2590920"/>
              <a:ext cx="1676160" cy="838080"/>
            </a:xfrm>
            <a:prstGeom prst="line">
              <a:avLst/>
            </a:prstGeom>
            <a:ln w="2556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03240" y="3834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20800" y="3427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N.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160" y="1154160"/>
            <a:ext cx="80337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Ley de Darcy,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elocida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flujo subterráneo est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finida po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                             </a:t>
            </a: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A * v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v = K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v es la velocidad del flujo subterráneo, en (m/dí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K es el coeficiente de permeabilidad, en (m/día); 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0000"/>
                </a:solidFill>
                <a:latin typeface="Arial"/>
              </a:rPr>
              <a:t>i es el gradiente hidráulico (adimensional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6120" y="1431000"/>
            <a:ext cx="84438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ff"/>
                </a:solidFill>
                <a:latin typeface="Arial"/>
              </a:rPr>
              <a:t>Escurrimiento hacia un pozo en un acuífero confin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Se entiende por régimen de equilibrio a la situación en que el agua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e del acuífero, generando una depresión del nivel piezo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l pozo, alcanza un equilibrio entre lo que se extrae y lo que le ent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acuífero, de forma que el descenso del agua al interior del pozo se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bili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Obviamente ésta es una situación ideal que muy raras veces se alcanz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lámina siguiente se muestra un pozo, atravesando un acuífero c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nado a todo su espesor, desde el cual se extrae un caudal const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14200" y="227160"/>
            <a:ext cx="8763120" cy="6432480"/>
            <a:chOff x="214200" y="227160"/>
            <a:chExt cx="8763120" cy="6432480"/>
          </a:xfrm>
        </p:grpSpPr>
        <p:pic>
          <p:nvPicPr>
            <p:cNvPr id="170" name="Bombeo%20Acui-Conf" descr=""/>
            <p:cNvPicPr/>
            <p:nvPr/>
          </p:nvPicPr>
          <p:blipFill>
            <a:blip r:embed="rId1"/>
            <a:stretch/>
          </p:blipFill>
          <p:spPr>
            <a:xfrm>
              <a:off x="214200" y="227160"/>
              <a:ext cx="8763120" cy="643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811880" y="144684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ff"/>
                  </a:solidFill>
                  <a:latin typeface="Arial"/>
                </a:rPr>
                <a:t>Q = k * A * 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43760" y="1446840"/>
              <a:ext cx="23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Q = k * 2 * π * r * D * dh/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9680" y="907560"/>
            <a:ext cx="693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parando variables se tien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n (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) = ((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T) / Q) * (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1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sto la transmisividad del acuífero confinado queda definida por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 =  ----------------------- * ln (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(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62120" y="762120"/>
            <a:ext cx="7315200" cy="5867280"/>
            <a:chOff x="762120" y="762120"/>
            <a:chExt cx="7315200" cy="5867280"/>
          </a:xfrm>
        </p:grpSpPr>
        <p:pic>
          <p:nvPicPr>
            <p:cNvPr id="177" name="Bombeo%20pozo%20no%20confinado" descr=""/>
            <p:cNvPicPr/>
            <p:nvPr/>
          </p:nvPicPr>
          <p:blipFill>
            <a:blip r:embed="rId1"/>
            <a:stretch/>
          </p:blipFill>
          <p:spPr>
            <a:xfrm>
              <a:off x="762120" y="762120"/>
              <a:ext cx="731520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115440" y="2104560"/>
              <a:ext cx="26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Q = K * 2 * </a:t>
              </a:r>
              <a:r>
                <a:rPr b="1" lang="es-ES" sz="16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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* r * h * dh/d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280" y="837720"/>
            <a:ext cx="7779240" cy="56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acuerdo a la Ley de Darcy y a los datos aportados por el croquis adjunto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dría que el caudal que atraviesa una sección de acuífero a una distancia “r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es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= K * 2 * </a:t>
            </a:r>
            <a:r>
              <a:rPr b="1" lang="es-ES" sz="16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* r * h * dh/d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es el coeficiente de permeabilidad (o conductividad hidrául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la distancia al pozo de bombe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 es el espesor saturado a la distancia 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h/dr es el gradiente hidrául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ecuación diferencial se resuelve separando las variables de form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 obtien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          2 * K *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* 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----    =  ----------------   d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                 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000" y="1167120"/>
            <a:ext cx="7974360" cy="51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porosidad de un medio detrítico o fracturado corresponde a la 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ón entre el volumen total del material y el volumen de su parte o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da por agua y/o ai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P =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huecos o espacios rellenos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e o agua y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total del material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v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ES_tradnl" sz="1800" spc="-1" strike="noStrike" baseline="-18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que 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el volumen de la parte sól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7840" y="1279800"/>
            <a:ext cx="766368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currimiento hacia un pozo en un acuífero freá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 =  ----------------------- * ln (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/ r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(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- h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este caso se podrá advertir que debido a que el espesor satu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variable (h), el resultado obtenido es el coeficiente de permeabil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Darcy (k) y no la transmisividad (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200240"/>
            <a:ext cx="799452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flujo en régimen de desequilibrio implica que si se somete a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ción al acuífero, el volumen extraído de éste deberá, necesariamen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nir del almacenamiento ya que no existiría recarga durante dic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íodo de extra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ducir las ecuaciones que definen el flujo en un medio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, en régimen de desequilibrio, es práctico considerar un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 de acuífero como el que muestra el esquema adjunto e inic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nálisis considerando un régimen de equilib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90560" y="685800"/>
            <a:ext cx="5349960" cy="5867280"/>
            <a:chOff x="1690560" y="685800"/>
            <a:chExt cx="5349960" cy="5867280"/>
          </a:xfrm>
        </p:grpSpPr>
        <p:pic>
          <p:nvPicPr>
            <p:cNvPr id="187" name="volumen%20unitario" descr=""/>
            <p:cNvPicPr/>
            <p:nvPr/>
          </p:nvPicPr>
          <p:blipFill>
            <a:blip r:embed="rId1"/>
            <a:stretch/>
          </p:blipFill>
          <p:spPr>
            <a:xfrm>
              <a:off x="1690560" y="685800"/>
              <a:ext cx="5349960" cy="58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391000" y="1954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8320" y="10656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36840" y="12182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z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640" y="1306800"/>
            <a:ext cx="80157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 ley de conservación de la masa permite aseverar que la cantidad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ua que ingresa al volumen unitario de acuífero tiene que ser igual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ntidad de agua que sale de dicho volumen unitario. De esta ma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, la ecuación de continuidad, que traduce en términos matem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ley, tendría la siguiente forma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v</a:t>
            </a:r>
            <a:r>
              <a:rPr b="1" lang="es-ES" sz="1800" spc="-1" strike="noStrike" u="sng" baseline="-6000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160" y="707400"/>
            <a:ext cx="84409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en la ecuación anterior, las velocidades de acuerdo a la L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Darcy  (v =k*i), se ob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es válida para un régimen de equilibrio pues la sumatoria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caudales es nula. En el caso de considerar un régimen de des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 implicará que se genera una variación del volumen almacenado en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olumen unitario, de forma que puede plantearse la siguiente expresió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K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=  S</a:t>
            </a:r>
            <a:r>
              <a:rPr b="1" lang="es-ES" sz="1800" spc="-1" strike="noStrike" baseline="-16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S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lmacenamiento específico, vale decir del elemento cúb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itario, que se manifiesta en una variación de la carga hidráulica por u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8360" y="1147680"/>
            <a:ext cx="82411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hora bien, si se asume que el medio permeable en estudio es isótrop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gnifica que las permeabilidades en los distintos ejes son iguales, de fo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 que puede escribirs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 u="sng" baseline="-14000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K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el caso de un acuífero confinado de espesor “b” y de almacena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 S, y considerando el fenómeno bidimensionalmente se tien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T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160" y="681840"/>
            <a:ext cx="8174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virtud de que la carga hidráulica (h) varía según una simetría radial,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idera el efecto de bombeo desde un pozo, la ecuación preced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puede expresar en coordenadas radiales como sigu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 baseline="30000">
                <a:solidFill>
                  <a:srgbClr val="990033"/>
                </a:solidFill>
                <a:uFillTx/>
                <a:latin typeface="Arial"/>
              </a:rPr>
              <a:t>2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+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1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=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Symbol"/>
                <a:ea typeface="Symbol"/>
              </a:rPr>
              <a:t>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r  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        T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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r =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 expresión representa el flujo subterráneo hacia un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n régimen de desequilibrio, vale decir donde el caudal se está ex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endo del almacenamiento del acuífero confinado. Las variables inv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adas son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 la carga hidráulica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r la distancia al pozo de bombe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 el almacenamiento del acuífero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la transmisividad del acuífero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t es el tiempo desde que se inició el bombe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120" y="880920"/>
            <a:ext cx="80276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is en 1935, imponiendo los límites de h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Ho y r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uvo la sol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e esta ecuación. Dicho resultado es el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e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-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              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generado por el bombeo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nte bombeado y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  =  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6200" y="907200"/>
            <a:ext cx="84582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integral de la solución de Theis es lo que se conoce como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función del poz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igna como W(u). La solución de dicha integral está dada por la siguiente seri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- 0,5772  -  ln u  +  u  -   ---------  +  ---------  -  ---------  +  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esta forma se obtienen las dos ecuaciones que permiten determinar la trans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idad (T) y el coeficiente de almacenamiento (S), de acuerdo a la solución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                                                      r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 =   --------- * W(u)                             u  =  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T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 T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9080" y="1015920"/>
            <a:ext cx="799884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égimen de Desequilib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160" y="763560"/>
            <a:ext cx="8300520" cy="58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las reservas de agua contenidas en el subsuelo sólo es recupe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la gravedad una fracción de la porosidad tot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Una parte de esta agua quedará irremediablemente retenida en el su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elo (agua de retención). Esta se puede expresar mediante la “capac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de retención específica” del terreno definida por la expres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m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(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/ V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* 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agua retenida en el subsuelo previamente saturad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 vez que se ha liberado toda el agua gravífica; y V</a:t>
            </a:r>
            <a:r>
              <a:rPr b="1" lang="es-ES" sz="1800" spc="-1" strike="noStrike" baseline="-20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volu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de agua contenida inicialmente es el sust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porosidad eficaz es entonces igual a la diferencia entre la poros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tal y la retención específica, vale dec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= P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- m</a:t>
            </a:r>
            <a:r>
              <a:rPr b="1" lang="es-ES" sz="1800" spc="-1" strike="noStrike" baseline="-20000">
                <a:solidFill>
                  <a:srgbClr val="990033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urva%20de%20Theis" descr=""/>
          <p:cNvPicPr/>
          <p:nvPr/>
        </p:nvPicPr>
        <p:blipFill>
          <a:blip r:embed="rId1"/>
          <a:stretch/>
        </p:blipFill>
        <p:spPr>
          <a:xfrm>
            <a:off x="1727280" y="711360"/>
            <a:ext cx="52848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23240" y="993600"/>
            <a:ext cx="591696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orosidad Efica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la porosidad influyen los siguientes factor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ma de los gran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posición de los granos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maño de los gran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OROSIDAD EFICAZ (%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terial         Máxima     Mínima      Med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arenosa         12                  3                   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 28                10                 2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media             32                15                 2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          35                 20                 2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con grava      35                 20 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finas             35                 21                2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medias         26                13                 2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s gruesas       26                 12                 2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983880"/>
            <a:ext cx="82609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ey de 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permeabilidad de un medio poroso es la capacidad que éste p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ta para permitir que un fluido circule a través de é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geniero francés Henry Darcy (1856) descubrió la ley que rige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vimiento del agua subterránea en un 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= K * A *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es el caudal que atraviesa una sección permeable de área 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 efecto de un gradiente hidráulico 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es el coeficiente de permeabilidad de Darcy, que tiene la di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ón de una velocidad y es propio de cada tipo de sediment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o perme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867280" y="1689120"/>
            <a:ext cx="1676520" cy="1054080"/>
            <a:chOff x="5867280" y="1689120"/>
            <a:chExt cx="1676520" cy="1054080"/>
          </a:xfrm>
        </p:grpSpPr>
        <p:grpSp>
          <p:nvGrpSpPr>
            <p:cNvPr id="53" name=""/>
            <p:cNvGrpSpPr/>
            <p:nvPr/>
          </p:nvGrpSpPr>
          <p:grpSpPr>
            <a:xfrm>
              <a:off x="5867280" y="1689120"/>
              <a:ext cx="1676520" cy="533520"/>
              <a:chOff x="5867280" y="1689120"/>
              <a:chExt cx="1676520" cy="533520"/>
            </a:xfrm>
          </p:grpSpPr>
          <p:sp>
            <p:nvSpPr>
              <p:cNvPr id="54" name=""/>
              <p:cNvSpPr/>
              <p:nvPr/>
            </p:nvSpPr>
            <p:spPr>
              <a:xfrm>
                <a:off x="5867280" y="1689120"/>
                <a:ext cx="1676520" cy="533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00840" y="1790280"/>
                <a:ext cx="132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Comic Sans MS"/>
                  </a:rPr>
                  <a:t>Q = k * A * 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172200" y="2362320"/>
              <a:ext cx="1219320" cy="38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 = (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 - h</a:t>
              </a:r>
              <a:r>
                <a:rPr b="1" lang="es-ES_tradnl" sz="12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) / 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32520" y="150120"/>
            <a:ext cx="5774040" cy="5412960"/>
            <a:chOff x="1532520" y="150120"/>
            <a:chExt cx="5774040" cy="5412960"/>
          </a:xfrm>
        </p:grpSpPr>
        <p:sp>
          <p:nvSpPr>
            <p:cNvPr id="58" name=""/>
            <p:cNvSpPr/>
            <p:nvPr/>
          </p:nvSpPr>
          <p:spPr>
            <a:xfrm>
              <a:off x="2600280" y="150120"/>
              <a:ext cx="3460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000" spc="-1" strike="noStrike">
                  <a:solidFill>
                    <a:srgbClr val="00ffff"/>
                  </a:solidFill>
                  <a:latin typeface="Arial"/>
                </a:rPr>
                <a:t>HIDROGE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532520" y="2417760"/>
              <a:ext cx="5774040" cy="3145320"/>
              <a:chOff x="1532520" y="2417760"/>
              <a:chExt cx="5774040" cy="314532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532520" y="2417760"/>
                <a:ext cx="5774040" cy="3145320"/>
                <a:chOff x="1532520" y="2417760"/>
                <a:chExt cx="5774040" cy="314532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1860480" y="2417760"/>
                  <a:ext cx="5149800" cy="3145320"/>
                  <a:chOff x="1860480" y="2417760"/>
                  <a:chExt cx="5149800" cy="314532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1860480" y="2417760"/>
                    <a:ext cx="5149800" cy="2799720"/>
                    <a:chOff x="1860480" y="2417760"/>
                    <a:chExt cx="5149800" cy="279972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368520" y="4608360"/>
                      <a:ext cx="2124360" cy="609120"/>
                    </a:xfrm>
                    <a:prstGeom prst="rect">
                      <a:avLst/>
                    </a:prstGeom>
                    <a:blipFill rotWithShape="0">
                      <a:blip r:embed="rId1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4308480" y="4608360"/>
                      <a:ext cx="158760" cy="609120"/>
                    </a:xfrm>
                    <a:prstGeom prst="ellipse">
                      <a:avLst/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22953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200400" y="3136680"/>
                      <a:ext cx="108000" cy="1471320"/>
                    </a:xfrm>
                    <a:prstGeom prst="rect">
                      <a:avLst/>
                    </a:pr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5495760" y="4608360"/>
                      <a:ext cx="1079640" cy="609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5549760" y="3603240"/>
                      <a:ext cx="108000" cy="100296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200400" y="241776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549760" y="2889000"/>
                      <a:ext cx="108000" cy="7156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19335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6573960" y="4608360"/>
                      <a:ext cx="360360" cy="609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186048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6575400" y="4856040"/>
                      <a:ext cx="434880" cy="107640"/>
                    </a:xfrm>
                    <a:prstGeom prst="rightArrow">
                      <a:avLst>
                        <a:gd name="adj1" fmla="val 50000"/>
                        <a:gd name="adj2" fmla="val 101003"/>
                      </a:avLst>
                    </a:pr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3295800" y="3122280"/>
                      <a:ext cx="2286000" cy="485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" name=""/>
                  <p:cNvSpPr/>
                  <p:nvPr/>
                </p:nvSpPr>
                <p:spPr>
                  <a:xfrm>
                    <a:off x="3371760" y="531612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5486400" y="5297040"/>
                    <a:ext cx="0" cy="2235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275360" y="5286600"/>
                    <a:ext cx="2674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L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>
                    <a:off x="337140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4704480" y="5411520"/>
                    <a:ext cx="762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883600" y="371196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1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5649120" y="3959640"/>
                    <a:ext cx="33156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h</a:t>
                    </a:r>
                    <a:r>
                      <a:rPr b="1" lang="es-ES_tradnl" sz="1200" spc="-1" strike="noStrike" baseline="-25000">
                        <a:solidFill>
                          <a:srgbClr val="000000"/>
                        </a:solidFill>
                        <a:latin typeface="Comic Sans MS"/>
                      </a:rPr>
                      <a:t>2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flipH="1">
                    <a:off x="2935080" y="3133440"/>
                    <a:ext cx="22356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flipH="1">
                    <a:off x="5691240" y="3611160"/>
                    <a:ext cx="22392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V="1">
                    <a:off x="3035160" y="3123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flipV="1">
                    <a:off x="5791320" y="359676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5800680" y="4235040"/>
                    <a:ext cx="0" cy="36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027240" y="4077720"/>
                    <a:ext cx="0" cy="52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" name=""/>
                <p:cNvSpPr/>
                <p:nvPr/>
              </p:nvSpPr>
              <p:spPr>
                <a:xfrm>
                  <a:off x="153252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984000" y="4752000"/>
                  <a:ext cx="322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ff"/>
                      </a:solidFill>
                      <a:latin typeface="Comic Sans MS"/>
                    </a:rPr>
                    <a:t>Q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246560" y="473616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106360" y="1007280"/>
              <a:ext cx="43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Comic Sans MS"/>
                </a:rPr>
                <a:t>Dispositivo utilizado por H. Darc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21440" y="778680"/>
            <a:ext cx="670824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ar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l coeficiente de permeabilidad (k) es un parámetr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ropio del medio permeable (no depende del fluído)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sulta en extremo variable de un material a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PERMEABILIDADES (k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po de Depósit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cm/seg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K (m/dí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luviales                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uv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 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luviales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aciales      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01 a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ava limpia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0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gruesa limpia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zcla de arena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 a 5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fina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3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 a 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ena limosa           2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2 a 0,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mo                         5*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5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0,5 a 0,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cilla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0,00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fracturadas          1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00 a 10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ocas sanas              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9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a 10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000" y="1125000"/>
            <a:ext cx="827928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hidrogeología los medios permeables de mayor relevancia está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ituidos por depósitos sedimentarios no consolidados o escas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te consolidados y por rocas usualmente fractura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Chile la hidrogeología se ha practicado casi exclusivamente en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lenos sedimentarios actuales o subactuales y es en general poca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eriencia que se tiene de hidrogeología en ro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materiales que de preferencia son propicios como medios perm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s son los depósitos sedimentarios fluviales, aluviales, coluviales, l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stres y lagunares. La permeabilidad de éstos depende básic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 cantidad de arcilla que presenten y secundariamente del grad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actación y cementación que tenga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000" y="870120"/>
            <a:ext cx="8317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nidades Permeables e Im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 acuerdo a la permeabilidad y a su potencial hidrogeológico, se re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cen tres tipos de medi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eros (del latín aqua = agua y fero = llev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cludos o acuífijos (del latín claudere = encerrar o cerra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itardo (del latín tardere = retardar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uífugo (del latín fugere = hui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 u="sng">
                <a:solidFill>
                  <a:srgbClr val="0000ff"/>
                </a:solidFill>
                <a:uFillTx/>
                <a:latin typeface="Arial"/>
              </a:rPr>
              <a:t>Acuíf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os acuíferos son medios permeables susceptibles de almacenar y 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r parte del agua que contienen por efecto gravitatorio. Los depósi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arenas y gravas fluviales o aluviales son buenos ejemplos de acuíf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términos netamente geológicos se puede hablar de acuíferos detrí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s o líticos fracturados, dependiendo del medio permeable que lo an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9-27T20:02:20Z</dcterms:modified>
  <cp:revision>488</cp:revision>
  <dc:subject/>
  <dc:title>Sin título de diapositiva</dc:title>
</cp:coreProperties>
</file>